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711-A71E-411A-888B-D960D6D5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DE2-675A-4996-AE19-1FE44D0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B0-D1D8-4CA4-ACAF-ADE61CED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BE4-1B2C-4FF4-8132-C99EADEE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B37-6394-44CD-9198-E1854A8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BC3-B78F-4C8F-AAA4-D102843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1CA-31F3-463B-B47E-5DCF6E3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EA4-E3F1-44FF-BE93-01675CD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C9E-9951-409B-8C76-587F30A7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604-E731-43F2-BB28-772BC62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394-0954-4691-BFAA-8D404D3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DEC-E3A1-46E3-8176-A17BF49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EF7-51F1-4D5D-8F47-643F9DFC2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Kinetic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Group 3 Alex Cohen, michael deng, Adam Spi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1 What is the difference between “pressure and “vapor pressure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- vapor pressure is the pressure of the vapor of a liquid at equilibrium with it's liquid phase in a closed conta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- The continuous physical force exerted on or against an object by something in contact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2 Compare and contrast the terms Evaporation, vaporization, and boi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- the conversion of a liquid to gas at the surface of a liquid that is not boi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- conversion of a liquid to a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- the temperature at which the vapor pressure of a liquid is equal to the external pressure on the li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odel for Liqu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netic theory says both particles in gas and in liquids have kinetic energy. Energy allows particles to flow past each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difference between gases and liquids is that gasses do not have attractions, while gasses 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play between disruptive motions of particles in a liquid and the attractions among the particles determines the physical properties of liqu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 is the conversion of liquid to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is occurs at the surface of a liquid that is not boiling, it is called EVAPO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evaporation, only molecules with a certain minimum kinetic energy can escape from the surface of the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quids that evaporate include water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measure of force exerted by a gas above a liq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number of particles entering the vapor increases and some of the particles condense and return to liquid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 EQUILIBR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emperature = increase vapo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atile- how easy something evapo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 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ometer- it measures vapo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liquid is heated to a temperature at which particles have enough kinetic energy to vaporize, the liquid BOILS :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iling point (bp) is when temperature at which the vapor pressure of the liquid is just equal to the external pressure on the liquid is the boiling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9 How does a liquid behave according to KM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KMT Liquid particles are attracted to each other, and gas particles have no attr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 10 How Does KMT explain vapor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the force exerted by a gas above a liquid in a sealed container, a dynamic equilibrium exists between the vapor and the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4:26:25Z</dcterms:created>
  <dc:creator>Guest 3</dc:creator>
  <dc:description/>
  <dc:language>en-US</dc:language>
  <cp:lastModifiedBy>udsd</cp:lastModifiedBy>
  <dcterms:modified xsi:type="dcterms:W3CDTF">2012-04-27T13:29:33Z</dcterms:modified>
  <cp:revision>6</cp:revision>
  <dc:subject/>
  <dc:title>13.2 The Liquids of Nature</dc:title>
</cp:coreProperties>
</file>